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B89-56B2-43FC-92EA-038880B9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035-7D99-40A1-B7F7-3E8B20A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7E8-48E0-4A4F-97CC-16C124EC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F22-2265-453B-BF26-95A85ABF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833-AF4C-4CFF-A585-7DA3FC43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6A4-8CC7-4534-896C-46A3ABC1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AF0-64A1-492B-9CE0-74D27296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91D-803E-494C-A8C6-2FCDC803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493-D944-41BC-8EFA-B5D4357A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5DC-D4D5-412B-B08D-45CFE3F7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E3B-B7F1-4E42-A7F5-452B20DD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140-7468-48EE-8972-2A7EFB47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8AB8D-1578-431F-8E69-DD0A8FC07E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404640" y="1625760"/>
            <a:ext cx="72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Life Sc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04640" y="3414600"/>
            <a:ext cx="682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What are we up to in 201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517680" y="2809800"/>
            <a:ext cx="7013520" cy="0"/>
          </a:xfrm>
          <a:prstGeom prst="line">
            <a:avLst/>
          </a:prstGeom>
          <a:ln w="255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451440" y="4581360"/>
            <a:ext cx="370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len Rob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len.robinson@manchester.ac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rk Hagon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rk.hagon@manchester.ac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1793880" y="6356520"/>
            <a:ext cx="555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Information and Communication Services (Web), Faculty of Life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06440" y="1625760"/>
            <a:ext cx="72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eb editing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06440" y="3368520"/>
            <a:ext cx="6821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we thought we needed 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ll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9"/>
          <p:cNvSpPr/>
          <p:nvPr/>
        </p:nvSpPr>
        <p:spPr>
          <a:xfrm>
            <a:off x="519120" y="2809800"/>
            <a:ext cx="7013520" cy="0"/>
          </a:xfrm>
          <a:prstGeom prst="line">
            <a:avLst/>
          </a:prstGeom>
          <a:ln w="25560">
            <a:solidFill>
              <a:srgbClr val="660066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TAB_col_white_background.eps"/>
          <p:cNvPicPr/>
          <p:nvPr/>
        </p:nvPicPr>
        <p:blipFill>
          <a:blip r:embed="rId1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12920" y="1298520"/>
            <a:ext cx="72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facebook.png"/>
          <p:cNvPicPr/>
          <p:nvPr/>
        </p:nvPicPr>
        <p:blipFill>
          <a:blip r:embed="rId3"/>
          <a:stretch/>
        </p:blipFill>
        <p:spPr>
          <a:xfrm>
            <a:off x="1863720" y="2084400"/>
            <a:ext cx="5416560" cy="4143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1874880" y="6424560"/>
            <a:ext cx="53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s://www.facebook.com/LifeSciencesManch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406440" y="1400040"/>
            <a:ext cx="72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lum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06440" y="2825640"/>
            <a:ext cx="799308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olumba’s XML to populate the current seminar pages on the Faculty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amline the process of semina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ial using Columba to manage news and othe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9"/>
          <p:cNvSpPr/>
          <p:nvPr/>
        </p:nvSpPr>
        <p:spPr>
          <a:xfrm>
            <a:off x="519120" y="2403360"/>
            <a:ext cx="7013520" cy="0"/>
          </a:xfrm>
          <a:prstGeom prst="line">
            <a:avLst/>
          </a:prstGeom>
          <a:ln w="25560">
            <a:solidFill>
              <a:srgbClr val="660066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TAB_col_white_background.eps"/>
          <p:cNvPicPr/>
          <p:nvPr/>
        </p:nvPicPr>
        <p:blipFill>
          <a:blip r:embed="rId1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brand_ppt_back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923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12920" y="1592280"/>
            <a:ext cx="72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design Faculty 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406440" y="3368520"/>
            <a:ext cx="6821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06440" y="3368520"/>
            <a:ext cx="68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urrent design is two years old – it’s time to review and rev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1"/>
          <p:cNvSpPr/>
          <p:nvPr/>
        </p:nvSpPr>
        <p:spPr>
          <a:xfrm>
            <a:off x="519120" y="2809800"/>
            <a:ext cx="7013520" cy="0"/>
          </a:xfrm>
          <a:prstGeom prst="line">
            <a:avLst/>
          </a:prstGeom>
          <a:ln w="25560">
            <a:solidFill>
              <a:srgbClr val="ffffff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51:07Z</dcterms:created>
  <dc:creator>Russell Hart</dc:creator>
  <dc:description/>
  <dc:language>en-US</dc:language>
  <cp:lastModifiedBy>mjrssfc</cp:lastModifiedBy>
  <dcterms:modified xsi:type="dcterms:W3CDTF">2013-04-16T12:18:22Z</dcterms:modified>
  <cp:revision>71</cp:revision>
  <dc:subject/>
  <dc:title>PowerPoint Presentation</dc:title>
</cp:coreProperties>
</file>